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96B-EDAA-4268-B6FC-ABE40DB3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4E6-BD8B-4AF0-A3B9-3E28996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423-0CF0-4A72-926E-212A86C0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EC6-50D0-471A-AE7A-48D1B943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06F-2CF5-43DD-A591-16599537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6E2-CD0D-45FD-8355-03614836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996-3B4E-4125-8E05-AFEFC40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BFD-A2BF-45F6-B9E1-ECF2E8E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8D9-2F1E-47E5-AB44-81438678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16E-4571-4843-880B-6DF4EBE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23D-F313-4BA2-A0EC-8C5D8DF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0FF-A820-445D-AE15-D0EBDB0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3C8-2FDD-4BDF-89F7-DABA2FCD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5105160" cy="6248160"/>
            <a:chOff x="457200" y="228600"/>
            <a:chExt cx="5105160" cy="624816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5105160" cy="6248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914400" y="685800"/>
              <a:ext cx="4190400" cy="4800600"/>
              <a:chOff x="914400" y="685800"/>
              <a:chExt cx="4190400" cy="48006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914400" y="685800"/>
                <a:ext cx="304560" cy="4800600"/>
                <a:chOff x="914400" y="685800"/>
                <a:chExt cx="304560" cy="48006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06668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914400" y="685800"/>
                  <a:ext cx="304560" cy="4800600"/>
                  <a:chOff x="914400" y="685800"/>
                  <a:chExt cx="304560" cy="480060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91440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91440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9144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91440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91440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91440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91440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91440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91440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144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" name=""/>
              <p:cNvGrpSpPr/>
              <p:nvPr/>
            </p:nvGrpSpPr>
            <p:grpSpPr>
              <a:xfrm>
                <a:off x="3733560" y="685800"/>
                <a:ext cx="304560" cy="4800600"/>
                <a:chOff x="3733560" y="685800"/>
                <a:chExt cx="304560" cy="4800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58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3733560" y="685800"/>
                  <a:ext cx="304560" cy="4800600"/>
                  <a:chOff x="3733560" y="685800"/>
                  <a:chExt cx="304560" cy="480060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37335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7335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33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335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7335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7335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7335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7335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7335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33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1523880" y="685800"/>
                <a:ext cx="304200" cy="4800600"/>
                <a:chOff x="1523880" y="685800"/>
                <a:chExt cx="304200" cy="48006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75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1523880" y="685800"/>
                  <a:ext cx="304200" cy="4800600"/>
                  <a:chOff x="1523880" y="685800"/>
                  <a:chExt cx="304200" cy="48006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523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523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523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23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523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523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523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523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523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3200040" y="685800"/>
                <a:ext cx="304560" cy="4800600"/>
                <a:chOff x="3200040" y="685800"/>
                <a:chExt cx="304560" cy="4800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523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3200040" y="685800"/>
                  <a:ext cx="304560" cy="4800600"/>
                  <a:chOff x="3200040" y="685800"/>
                  <a:chExt cx="304560" cy="48006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2000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2000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2000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2000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2000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2000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2000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000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2000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00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"/>
              <p:cNvGrpSpPr/>
              <p:nvPr/>
            </p:nvGrpSpPr>
            <p:grpSpPr>
              <a:xfrm>
                <a:off x="2666880" y="685800"/>
                <a:ext cx="304200" cy="4800600"/>
                <a:chOff x="2666880" y="685800"/>
                <a:chExt cx="304200" cy="4800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818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66880" y="685800"/>
                  <a:ext cx="304200" cy="4800600"/>
                  <a:chOff x="2666880" y="685800"/>
                  <a:chExt cx="304200" cy="4800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666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666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666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666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666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666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666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666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666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6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2133360" y="685800"/>
                <a:ext cx="304560" cy="4800600"/>
                <a:chOff x="2133360" y="685800"/>
                <a:chExt cx="304560" cy="4800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2856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133360" y="685800"/>
                  <a:ext cx="304560" cy="4800600"/>
                  <a:chOff x="2133360" y="685800"/>
                  <a:chExt cx="304560" cy="48006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1333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333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333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333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333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1333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1333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1333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1333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1333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4267080" y="685800"/>
                <a:ext cx="304200" cy="4800600"/>
                <a:chOff x="4267080" y="685800"/>
                <a:chExt cx="304200" cy="4800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4190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4267080" y="685800"/>
                  <a:ext cx="304200" cy="4800600"/>
                  <a:chOff x="4267080" y="685800"/>
                  <a:chExt cx="304200" cy="48006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2670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2670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2670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2670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2670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2670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2670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670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2670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2670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4800240" y="685800"/>
                <a:ext cx="304560" cy="4800600"/>
                <a:chOff x="4800240" y="685800"/>
                <a:chExt cx="304560" cy="4800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9525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4800240" y="685800"/>
                  <a:ext cx="304560" cy="4800600"/>
                  <a:chOff x="4800240" y="685800"/>
                  <a:chExt cx="304560" cy="48006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8002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002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002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002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8002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8002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8002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8002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002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002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" name=""/>
            <p:cNvGrpSpPr/>
            <p:nvPr/>
          </p:nvGrpSpPr>
          <p:grpSpPr>
            <a:xfrm>
              <a:off x="1066680" y="838080"/>
              <a:ext cx="3657240" cy="4800600"/>
              <a:chOff x="1066680" y="838080"/>
              <a:chExt cx="3657240" cy="48006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66680" y="838080"/>
                <a:ext cx="304560" cy="4800600"/>
                <a:chOff x="1066680" y="838080"/>
                <a:chExt cx="304560" cy="4800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18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1066680" y="838080"/>
                  <a:ext cx="304560" cy="4800600"/>
                  <a:chOff x="1066680" y="838080"/>
                  <a:chExt cx="304560" cy="48006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066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066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066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066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066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066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066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066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066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66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885840" y="838080"/>
                <a:ext cx="304560" cy="4800600"/>
                <a:chOff x="3885840" y="838080"/>
                <a:chExt cx="304560" cy="4800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0381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885840" y="838080"/>
                  <a:ext cx="304560" cy="4800600"/>
                  <a:chOff x="3885840" y="838080"/>
                  <a:chExt cx="304560" cy="4800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8858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8858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8858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858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8858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8858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858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858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858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8858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1676160" y="838080"/>
                <a:ext cx="304560" cy="4800600"/>
                <a:chOff x="1676160" y="838080"/>
                <a:chExt cx="304560" cy="48006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828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6160" y="838080"/>
                  <a:ext cx="304560" cy="4800600"/>
                  <a:chOff x="1676160" y="838080"/>
                  <a:chExt cx="304560" cy="4800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6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76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6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676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676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676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676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76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676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676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352680" y="838080"/>
                <a:ext cx="304560" cy="4800600"/>
                <a:chOff x="3352680" y="838080"/>
                <a:chExt cx="304560" cy="4800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504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352680" y="838080"/>
                  <a:ext cx="304560" cy="4800600"/>
                  <a:chOff x="3352680" y="838080"/>
                  <a:chExt cx="304560" cy="4800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52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352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352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352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352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352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52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352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352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819160" y="838080"/>
                <a:ext cx="304560" cy="4800600"/>
                <a:chOff x="2819160" y="838080"/>
                <a:chExt cx="304560" cy="4800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71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2819160" y="838080"/>
                  <a:ext cx="304560" cy="4800600"/>
                  <a:chOff x="2819160" y="838080"/>
                  <a:chExt cx="304560" cy="48006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819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819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819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819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9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19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819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19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19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819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2285640" y="838080"/>
                <a:ext cx="304560" cy="4800600"/>
                <a:chOff x="2285640" y="838080"/>
                <a:chExt cx="304560" cy="48006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79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2285640" y="838080"/>
                  <a:ext cx="304560" cy="4800600"/>
                  <a:chOff x="2285640" y="838080"/>
                  <a:chExt cx="304560" cy="48006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2856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856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856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856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2856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856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856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856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56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856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4419360" y="838080"/>
                <a:ext cx="304560" cy="4800600"/>
                <a:chOff x="4419360" y="838080"/>
                <a:chExt cx="304560" cy="4800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716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419360" y="838080"/>
                  <a:ext cx="304560" cy="4800600"/>
                  <a:chOff x="4419360" y="838080"/>
                  <a:chExt cx="304560" cy="48006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4193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193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4193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93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193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193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193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4193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4193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193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" name=""/>
            <p:cNvGrpSpPr/>
            <p:nvPr/>
          </p:nvGrpSpPr>
          <p:grpSpPr>
            <a:xfrm>
              <a:off x="1218960" y="990360"/>
              <a:ext cx="3657240" cy="4800600"/>
              <a:chOff x="1218960" y="990360"/>
              <a:chExt cx="3657240" cy="48006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218960" y="990360"/>
                <a:ext cx="304560" cy="4800600"/>
                <a:chOff x="1218960" y="990360"/>
                <a:chExt cx="304560" cy="4800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71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218960" y="990360"/>
                  <a:ext cx="304560" cy="4800600"/>
                  <a:chOff x="1218960" y="990360"/>
                  <a:chExt cx="304560" cy="48006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218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218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218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218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218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218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18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218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218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18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4038120" y="990360"/>
                <a:ext cx="304560" cy="4800600"/>
                <a:chOff x="4038120" y="990360"/>
                <a:chExt cx="304560" cy="480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904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4038120" y="990360"/>
                  <a:ext cx="304560" cy="4800600"/>
                  <a:chOff x="4038120" y="990360"/>
                  <a:chExt cx="304560" cy="48006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0381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0381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381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0381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0381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0381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381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0381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0381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0381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1828440" y="990360"/>
                <a:ext cx="304560" cy="4800600"/>
                <a:chOff x="1828440" y="990360"/>
                <a:chExt cx="304560" cy="48006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980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1828440" y="990360"/>
                  <a:ext cx="304560" cy="4800600"/>
                  <a:chOff x="1828440" y="990360"/>
                  <a:chExt cx="304560" cy="48006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1828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828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28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828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828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828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28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828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828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828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3504960" y="990360"/>
                <a:ext cx="304560" cy="4800600"/>
                <a:chOff x="3504960" y="990360"/>
                <a:chExt cx="304560" cy="4800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657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3504960" y="990360"/>
                  <a:ext cx="304560" cy="4800600"/>
                  <a:chOff x="3504960" y="990360"/>
                  <a:chExt cx="304560" cy="48006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504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04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04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04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04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04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04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04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04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04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2971440" y="990360"/>
                <a:ext cx="304560" cy="4800600"/>
                <a:chOff x="2971440" y="990360"/>
                <a:chExt cx="304560" cy="4800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23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971440" y="990360"/>
                  <a:ext cx="304560" cy="4800600"/>
                  <a:chOff x="2971440" y="990360"/>
                  <a:chExt cx="304560" cy="48006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971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971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971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71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971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971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971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971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971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971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437920" y="990360"/>
                <a:ext cx="304560" cy="4800600"/>
                <a:chOff x="2437920" y="990360"/>
                <a:chExt cx="304560" cy="4800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2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437920" y="990360"/>
                  <a:ext cx="304560" cy="4800600"/>
                  <a:chOff x="2437920" y="990360"/>
                  <a:chExt cx="304560" cy="48006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4379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4379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79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379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4379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4379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79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379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4379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379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4571640" y="990360"/>
                <a:ext cx="304560" cy="4800600"/>
                <a:chOff x="4571640" y="990360"/>
                <a:chExt cx="304560" cy="4800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7239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4571640" y="990360"/>
                  <a:ext cx="304560" cy="4800600"/>
                  <a:chOff x="4571640" y="990360"/>
                  <a:chExt cx="304560" cy="4800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5716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16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5716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5716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5716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5716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5716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16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16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16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2" name=""/>
            <p:cNvGrpSpPr/>
            <p:nvPr/>
          </p:nvGrpSpPr>
          <p:grpSpPr>
            <a:xfrm>
              <a:off x="1371600" y="1143000"/>
              <a:ext cx="3657240" cy="4800600"/>
              <a:chOff x="1371600" y="1143000"/>
              <a:chExt cx="3657240" cy="48006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371600" y="1143000"/>
                <a:ext cx="304560" cy="4800600"/>
                <a:chOff x="1371600" y="1143000"/>
                <a:chExt cx="304560" cy="4800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523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1371600" y="1143000"/>
                  <a:ext cx="304560" cy="4800600"/>
                  <a:chOff x="1371600" y="1143000"/>
                  <a:chExt cx="304560" cy="4800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71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371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371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371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371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371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371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371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371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371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190760" y="1143000"/>
                <a:ext cx="304560" cy="4800600"/>
                <a:chOff x="4190760" y="1143000"/>
                <a:chExt cx="304560" cy="4800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3430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190760" y="1143000"/>
                  <a:ext cx="304560" cy="4800600"/>
                  <a:chOff x="4190760" y="1143000"/>
                  <a:chExt cx="304560" cy="4800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1907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1907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1907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907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907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1907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1907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1907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1907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1907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1981080" y="1143000"/>
                <a:ext cx="304560" cy="4800600"/>
                <a:chOff x="1981080" y="1143000"/>
                <a:chExt cx="304560" cy="480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33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1981080" y="1143000"/>
                  <a:ext cx="304560" cy="4800600"/>
                  <a:chOff x="1981080" y="1143000"/>
                  <a:chExt cx="304560" cy="48006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981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981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81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81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981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981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981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981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81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81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3657600" y="1143000"/>
                <a:ext cx="304560" cy="4800600"/>
                <a:chOff x="3657600" y="1143000"/>
                <a:chExt cx="304560" cy="4800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809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3657600" y="1143000"/>
                  <a:ext cx="304560" cy="4800600"/>
                  <a:chOff x="3657600" y="1143000"/>
                  <a:chExt cx="304560" cy="48006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657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657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657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7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657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57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657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57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57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57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3124080" y="1143000"/>
                <a:ext cx="304560" cy="4800600"/>
                <a:chOff x="3124080" y="1143000"/>
                <a:chExt cx="304560" cy="48006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276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3124080" y="1143000"/>
                  <a:ext cx="304560" cy="4800600"/>
                  <a:chOff x="3124080" y="1143000"/>
                  <a:chExt cx="304560" cy="48006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124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124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124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24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124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124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124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124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24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124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2590560" y="1143000"/>
                <a:ext cx="304560" cy="4800600"/>
                <a:chOff x="2590560" y="1143000"/>
                <a:chExt cx="304560" cy="48006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28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2590560" y="1143000"/>
                  <a:ext cx="304560" cy="4800600"/>
                  <a:chOff x="2590560" y="1143000"/>
                  <a:chExt cx="304560" cy="48006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590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590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5905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5905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5905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5905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5905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5905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5905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5905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4724280" y="1143000"/>
                <a:ext cx="304560" cy="4800600"/>
                <a:chOff x="4724280" y="1143000"/>
                <a:chExt cx="304560" cy="4800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8765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24280" y="1143000"/>
                  <a:ext cx="304560" cy="4800600"/>
                  <a:chOff x="4724280" y="1143000"/>
                  <a:chExt cx="304560" cy="4800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7242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7242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7242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242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242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7242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7242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7242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7242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242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4" name=""/>
          <p:cNvGrpSpPr/>
          <p:nvPr/>
        </p:nvGrpSpPr>
        <p:grpSpPr>
          <a:xfrm>
            <a:off x="6477120" y="762120"/>
            <a:ext cx="1981080" cy="1981080"/>
            <a:chOff x="6477120" y="762120"/>
            <a:chExt cx="1981080" cy="1981080"/>
          </a:xfrm>
        </p:grpSpPr>
        <p:sp>
          <p:nvSpPr>
            <p:cNvPr id="425" name=""/>
            <p:cNvSpPr/>
            <p:nvPr/>
          </p:nvSpPr>
          <p:spPr>
            <a:xfrm>
              <a:off x="6553080" y="762120"/>
              <a:ext cx="1828800" cy="198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432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24680" y="190512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161460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19810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8840" y="130968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2796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70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898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84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756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5656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715000" y="3505320"/>
            <a:ext cx="3429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ex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deploy in volu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mnidirectional “pixellised” “disco” like PMT’s? Fill e.g a benthosphere with 10-20 smaller diameter PM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volume vs surfac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fficienc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adds a reflective material in the internal surface event better effici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spherical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 N detectors of A cross-sectional area, deployed in a spherical surface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 sphere radius (32,5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L=attenuation length (8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81480" y="3733920"/>
                <a:ext cx="7621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057400" y="5334120"/>
                <a:ext cx="4724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one calculate the mean atten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895320" y="1752480"/>
                <a:ext cx="720108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38080" y="3505320"/>
            <a:ext cx="266724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372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3372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133720" y="3809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710160" y="3301920"/>
                <a:ext cx="468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419112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pherical emission from a point z, along the z-axis without loss of generality, and integrate in z and theta (phi triv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as a cell-volume around each PMT: v=V/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erefore has mean effici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integral is the mean atten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vious result, it gives (i am uncertain whether it is correct, i do not understand it ful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04920" y="2590920"/>
                <a:ext cx="845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r>
                      <m:t xml:space="preserve">A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84160" y="4419720"/>
                <a:ext cx="668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629400" y="5562720"/>
                <a:ext cx="1828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efficiencies volume vs su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 (R/L=0.4)  Q=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ssume perfectly reflecting walls, (R towards infinity in the volume case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77840" y="2286000"/>
                <a:ext cx="71424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932120" y="5486400"/>
                <a:ext cx="2894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5334120" y="5715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!!!!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reaso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 vs 2D projection (good timing hel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s increase efficiency or in case one does not want this, a simple liner is sufficient: no tank needed. The cavern walls=tank w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disco” structure replies to Larry S. argument that surface deployment gives more PM’s h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bove all, increased efficiency permits reduction of the number of PMTs with a factor at least 3.6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y with KM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body MonteCarlo all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9:31:22Z</dcterms:created>
  <dc:creator>S. Katsanevas</dc:creator>
  <dc:description/>
  <dc:language>en-US</dc:language>
  <cp:lastModifiedBy>J.E Campagne</cp:lastModifiedBy>
  <dcterms:modified xsi:type="dcterms:W3CDTF">2006-06-19T08:05:13Z</dcterms:modified>
  <cp:revision>7</cp:revision>
  <dc:subject/>
  <dc:title>PowerPoint Presentation</dc:title>
</cp:coreProperties>
</file>